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C085-849E-4C07-9DB5-A6BA991E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A69-BCC9-42EF-B7DF-3A184080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B55-6806-4B56-87FC-EBECD788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6BB-5635-4D86-AC9A-33F8A217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B28C-5727-4210-A120-71B74A81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54AA-1FB7-45F0-B273-B7714DD2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AAC5-FF64-4F3A-A30A-C9824902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F552-EA28-4186-97F3-36822C1D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F1C0-E4EC-4CC9-9A17-C37631A3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8A86-0556-4CA7-B031-3292A456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F1F7-BE27-4500-BD66-BE767FBD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F541-8DD3-49C5-A00C-57E1D758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12D9-056D-45B5-A3F2-D25C095A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23BA-E5AF-4D25-9256-2CB5E7C0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DA4B-0B8B-44E7-BD4E-E7EF1970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262A-3A6B-487B-A4C2-56D38D0A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48A7-61D2-4948-9AD7-20F393EA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E61-2BA2-46FB-8825-9088FECF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68D-A153-43C7-AD83-7B932ED9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0A1D-BD56-4872-82C6-E31A515D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AA9-1A4E-4E64-8A13-2A60FFE5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99CA-4654-4F9C-AC19-6A166437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E59-C643-450E-9263-B31E63A5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AE6-E9C3-454E-BFB1-CCAA3B17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8CDC-DF27-40AC-86F0-3C8A4FF2858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2B54-0D48-41B2-BBA0-39A4F1590E8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riodic Law Review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hapter 5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definition of ionization energy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across a period…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down a family/grou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"/>
          <p:cNvSpPr/>
          <p:nvPr/>
        </p:nvSpPr>
        <p:spPr>
          <a:xfrm>
            <a:off x="838080" y="14479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ergy required to remove one electron from a neutral atom of an element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43000" y="32004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zation energies of the main group elements increase across a period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38080" y="502920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zation energies of the main group generally decrease down a group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0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definition of atomic radius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across a period…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down a family/grou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"/>
          <p:cNvSpPr/>
          <p:nvPr/>
        </p:nvSpPr>
        <p:spPr>
          <a:xfrm>
            <a:off x="838080" y="106668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verage distance between two bonded atoms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90720" y="26668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radius decreases across a group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14400" y="502920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radius increases down a group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definition of ionic radii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across a period…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down a family/grou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"/>
          <p:cNvSpPr/>
          <p:nvPr/>
        </p:nvSpPr>
        <p:spPr>
          <a:xfrm>
            <a:off x="838080" y="10666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verage distance between 2 bonded atoms that are a cation or anion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62120" y="25909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ionic radii decrease across a period.  Anionic radii decrease across each period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066680" y="541008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 radii (cationic and anionic) increase down a group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definition of valence electrons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across a period…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down a family/grou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160020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mber of electrons found in the outermost s and p orbitals. They are available to gain, lose or share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219320" y="3733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ence electrons increase by 1 in the main group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52578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ence electrons remain the same in each family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5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1066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ge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0200" y="32004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nadiu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2880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"/>
          <p:cNvSpPr/>
          <p:nvPr/>
        </p:nvSpPr>
        <p:spPr>
          <a:xfrm>
            <a:off x="838080" y="1066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600200" y="3200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ur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aniu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"/>
          <p:cNvSpPr/>
          <p:nvPr/>
        </p:nvSpPr>
        <p:spPr>
          <a:xfrm>
            <a:off x="838080" y="1066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rin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00200" y="3200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din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15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77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77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5" dur="77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1066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min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600200" y="32004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siu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82880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iu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"/>
          <p:cNvSpPr/>
          <p:nvPr/>
        </p:nvSpPr>
        <p:spPr>
          <a:xfrm>
            <a:off x="838080" y="1066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inum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00200" y="3200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taniu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2880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u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"/>
          <p:cNvSpPr/>
          <p:nvPr/>
        </p:nvSpPr>
        <p:spPr>
          <a:xfrm>
            <a:off x="838080" y="1066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gste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600200" y="3200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2880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man organized the periodic table by increasing atomic mas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man organized the periodic table by increasing atomic numb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definition of periodic law is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"/>
          <p:cNvSpPr/>
          <p:nvPr/>
        </p:nvSpPr>
        <p:spPr>
          <a:xfrm>
            <a:off x="990720" y="1447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48120" y="3886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Moseley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" y="5715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and chemical properties are periodic functions of their atomic numbers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"/>
          <p:cNvSpPr/>
          <p:nvPr/>
        </p:nvSpPr>
        <p:spPr>
          <a:xfrm>
            <a:off x="838080" y="1066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3200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iu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2880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g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c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"/>
          <p:cNvSpPr/>
          <p:nvPr/>
        </p:nvSpPr>
        <p:spPr>
          <a:xfrm>
            <a:off x="838080" y="1066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ndium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00200" y="3200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ylliu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82880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hiu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many atoms are in 1 mol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above number referred to a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umber of protons is called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"/>
          <p:cNvSpPr/>
          <p:nvPr/>
        </p:nvSpPr>
        <p:spPr>
          <a:xfrm>
            <a:off x="838080" y="1066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022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00200" y="3200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gadro’s number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828800" y="533412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number of protons + neutrons is called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toms of the same element which differ in the number of neutrons are called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average mass taking into account the abundance of all of the isotopes of that element is called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"/>
          <p:cNvSpPr/>
          <p:nvPr/>
        </p:nvSpPr>
        <p:spPr>
          <a:xfrm>
            <a:off x="838080" y="1066680"/>
            <a:ext cx="19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00200" y="35812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top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76520" y="594360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mass (that’s why it is a decimal on the periodic table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you obtain the mass number when all you are given on the periodic table is atomic number and atomic mas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element [He] 2s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element [Kr] 5s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"/>
          <p:cNvSpPr/>
          <p:nvPr/>
        </p:nvSpPr>
        <p:spPr>
          <a:xfrm>
            <a:off x="914400" y="236232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nding the atomic mass to the nearest whole number will give you the mass number of the most common isotope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47920" y="42670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38680" y="5486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b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9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electron configuration for K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electron configuration for C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electron configuration for K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"/>
          <p:cNvSpPr/>
          <p:nvPr/>
        </p:nvSpPr>
        <p:spPr>
          <a:xfrm>
            <a:off x="838080" y="1066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600200" y="3200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" y="49528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9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oble gas configuration for 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oble gas configuration for A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oble gas configuration for N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"/>
          <p:cNvSpPr/>
          <p:nvPr/>
        </p:nvSpPr>
        <p:spPr>
          <a:xfrm>
            <a:off x="990720" y="990720"/>
            <a:ext cx="464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[Ne]3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600200" y="3200400"/>
            <a:ext cx="396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[Ar]4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28800" y="53341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[He]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8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vert 4 .0mol O to atoms of 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vert 25.0 x 10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23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atoms S to mol 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vert 14.0 g Mg to mol M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106668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0 mol O x 6.022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=2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ol O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1240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.0 x 10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oms S x 1 mol             =4.15 mol 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022 x 1023 atom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4952880"/>
            <a:ext cx="739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.0 g Mg x 1 mol Mg = .576 mol Mg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.30 g Mg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1066680"/>
            <a:ext cx="0" cy="9144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3276720"/>
            <a:ext cx="0" cy="9144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19520" y="5105520"/>
            <a:ext cx="0" cy="9144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143000" y="1600200"/>
            <a:ext cx="6324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066680" y="3733920"/>
            <a:ext cx="632484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38080" y="5562720"/>
            <a:ext cx="632484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3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vert 14.0 g of O to mol 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vert 10.0 g of Au to atoms Au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vert 5.0 g S to atoms of 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"/>
          <p:cNvSpPr/>
          <p:nvPr/>
        </p:nvSpPr>
        <p:spPr>
          <a:xfrm>
            <a:off x="838080" y="1066680"/>
            <a:ext cx="6096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.0 g O x 1 mol =.875 mol O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.0 g O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2590920"/>
            <a:ext cx="8686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0 g Au x      6.022 x 1023 atoms Au =3.06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.97 g Au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441972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0 g S x 6.022 x 1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oms S = 9.4 x 1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oms 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2.065 g 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143000" y="1600200"/>
            <a:ext cx="6324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" y="4952880"/>
            <a:ext cx="6324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3124080"/>
            <a:ext cx="632484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90920" y="914400"/>
            <a:ext cx="0" cy="12952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523880" y="4495680"/>
            <a:ext cx="0" cy="12956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86000" y="2666880"/>
            <a:ext cx="0" cy="12956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40" dur="20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riodic functions means…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ame of the first fami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ame of the second fami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"/>
          <p:cNvSpPr/>
          <p:nvPr/>
        </p:nvSpPr>
        <p:spPr>
          <a:xfrm>
            <a:off x="838080" y="1066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peating trend because of.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27432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5334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ame of the 2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n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o last fami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ame of the last fami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family all ends in s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1066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00200" y="32004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28800" y="53341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family ends in p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family ends in s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family ends in p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10666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00200" y="3200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2880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se three families are highly reactiv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family is relatively unreactiv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family gains 1e- when bond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152388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kali metals, halogens, and alkaline earth metal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373392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09880" y="57913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family loses 1 e- when bond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family loses 2e- when bond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family has a full s and p orbital in the principal energy leve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1371600"/>
            <a:ext cx="19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23880" y="38098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594360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definition of electronegativity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across a period…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down a family/grou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14479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easure of the tendency of an atom to gain an electron from another atom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00200" y="32004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egativity increases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38080" y="49528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egativity decrease or remain the same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6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definition of electron affinity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across a period…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down a family/grou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15238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ergy change that occurs when an electron is acquired by a neutral atom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0880" y="3048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 affinity become more negative in the p block; becomes more positive going from group 1 to group 2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28800" y="53341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ergies become less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6:05:41Z</dcterms:created>
  <dc:creator>J Tucker</dc:creator>
  <dc:description/>
  <dc:language>en-US</dc:language>
  <cp:lastModifiedBy>J Tucker</cp:lastModifiedBy>
  <dcterms:modified xsi:type="dcterms:W3CDTF">2007-11-02T18:36:14Z</dcterms:modified>
  <cp:revision>8</cp:revision>
  <dc:subject/>
  <dc:title>Periodic Law Review </dc:title>
</cp:coreProperties>
</file>